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088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0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3400" y="705960"/>
            <a:ext cx="470376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0520" y="4468320"/>
            <a:ext cx="5067000" cy="4233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91428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519CA9-F55D-479B-9F48-876434B15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1428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8AC5B1-7B4C-449D-AE5F-0D100D42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20520" y="4468320"/>
            <a:ext cx="50670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1103400" y="706320"/>
            <a:ext cx="4703760" cy="3527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2BC08-D95E-4632-86DB-E651FD9BD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369A-44DE-48A4-AC11-1C8900D68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5417-5433-47F0-B0F0-E2EE001F0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4A6D-92D0-4461-9803-168DD2E8B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F3F7-D750-4914-8B08-21E82B628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52D6-43D2-41C7-B5AD-CE794F2AD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A5926-B976-4364-BD85-8F8C57578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E28D-2ED0-464C-9DD6-31AACCCE6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91E6-E96E-4B85-B138-B0E4C4B5D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B0BF-0FBB-4798-888F-8CB44BC24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EE39-E6BE-4285-BC8B-1204C72B6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7EF4-A1F1-4EB4-82F9-D775C46B5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%20template%20final%20body%20at%20175%20copyb" descr=""/>
          <p:cNvPicPr/>
          <p:nvPr/>
        </p:nvPicPr>
        <p:blipFill>
          <a:blip r:embed="rId2"/>
          <a:srcRect l="0" t="0" r="0" b="20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343400" y="66290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DF5C-F972-4131-9065-665C663210FA}" type="slidenum">
              <a:rPr b="0" lang="en-US" sz="9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6373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inal%20template%20graphic%204_17_00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67820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114320" y="664380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057040"/>
            <a:ext cx="678168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Deployment</a:t>
            </a:r>
            <a:br>
              <a:rPr sz="4800"/>
            </a:b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and</a:t>
            </a:r>
            <a:br>
              <a:rPr sz="4800"/>
            </a:b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onfiguration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14240" y="4114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ubmission Overview and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9528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rank Pilhofer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p@mc.c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arget Data Model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46479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de, Interconnect and Resource have properti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se properties are matched against artifact properti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431136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B0EE-BAFA-41AF-8E67-B5D19ED4E9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eployment Proces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64004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95280" y="1138320"/>
            <a:ext cx="6551640" cy="45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D48A-9688-456D-8DD6-C017151001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SM for CCM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nents will be mapped to CORBA Componen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ckages will be ZIP fil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ntain artifacts and XML meta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ata Models will be mapped to XML DTDs and valuetyp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pping should be mostly automatic, using XMI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2AAC-F5B6-47B1-8EC8-9DD543E65E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this spec does 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not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do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oesn’t define a format for artifac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E? DLL? SO? Scripts? Source code?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ight be partially defined in a PS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oesn’t define node properti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small vocabulary in a PSM might be sensible, should be user extensibl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oesn’t define “node level” interfac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arget Manager and Execution Manager can delegate to implementation-specific node-level interfac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989C-309C-4102-BA7D-AEA09DA936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tatu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IM comple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eds more plain-text explanation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SM for CCM TB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SM for SCA TBD (optional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nal Submission due March 3, 2003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B vote (recommendation for adoption) in Orland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1B51-BFBF-4FED-9E55-730F2D869D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ntributor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sponse to RFP “Deployment and Configuration of Component-Based Applications”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MD Foku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niversity of Carlet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aythe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88solution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rcury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3B2C-D5B8-4F78-BAB7-C3757C6003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676520" y="914400"/>
            <a:ext cx="7162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able of Content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del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atu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D06A-7E0B-411B-BCB5-AFE162D0E03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Goal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utomatic deployment and configuration of component-based applications into distributed heterogeneous environmen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lications are composed of componen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onent implementations express requirements (e.g. CPU/OS type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quirements must be matched by capabilities of the target environm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lementations are packaged for easy distribu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F91C-F6D8-4F2F-B18A-47D04B1C72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onent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nent” as defined by UML2P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fined by its por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rconnects with other components via por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be disassembled into subcomponents, 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n be manifested by artifacts (usually files): “monolithic implementation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19760" y="990720"/>
            <a:ext cx="1951560" cy="1676160"/>
            <a:chOff x="1319760" y="990720"/>
            <a:chExt cx="1951560" cy="1676160"/>
          </a:xfrm>
        </p:grpSpPr>
        <p:grpSp>
          <p:nvGrpSpPr>
            <p:cNvPr id="101" name=""/>
            <p:cNvGrpSpPr/>
            <p:nvPr/>
          </p:nvGrpSpPr>
          <p:grpSpPr>
            <a:xfrm>
              <a:off x="1600200" y="1905120"/>
              <a:ext cx="1523520" cy="761760"/>
              <a:chOff x="1600200" y="1905120"/>
              <a:chExt cx="1523520" cy="761760"/>
            </a:xfrm>
          </p:grpSpPr>
          <p:sp>
            <p:nvSpPr>
              <p:cNvPr id="102" name=""/>
              <p:cNvSpPr/>
              <p:nvPr/>
            </p:nvSpPr>
            <p:spPr>
              <a:xfrm>
                <a:off x="1600200" y="1905120"/>
                <a:ext cx="1306080" cy="761760"/>
              </a:xfrm>
              <a:prstGeom prst="roundRect">
                <a:avLst>
                  <a:gd name="adj" fmla="val 21968"/>
                </a:avLst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fcff"/>
                    </a:solidFill>
                    <a:latin typeface="Times New Roman"/>
                  </a:rPr>
                  <a:t>C0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906280" y="2133720"/>
                <a:ext cx="217440" cy="30456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319760" y="990720"/>
              <a:ext cx="195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Application View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black-box view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429000" y="990720"/>
            <a:ext cx="2933640" cy="1925640"/>
            <a:chOff x="3429000" y="990720"/>
            <a:chExt cx="2933640" cy="1925640"/>
          </a:xfrm>
        </p:grpSpPr>
        <p:grpSp>
          <p:nvGrpSpPr>
            <p:cNvPr id="106" name=""/>
            <p:cNvGrpSpPr/>
            <p:nvPr/>
          </p:nvGrpSpPr>
          <p:grpSpPr>
            <a:xfrm>
              <a:off x="3429000" y="1676520"/>
              <a:ext cx="2933640" cy="1239840"/>
              <a:chOff x="3429000" y="1676520"/>
              <a:chExt cx="2933640" cy="1239840"/>
            </a:xfrm>
          </p:grpSpPr>
          <p:sp>
            <p:nvSpPr>
              <p:cNvPr id="107" name=""/>
              <p:cNvSpPr/>
              <p:nvPr/>
            </p:nvSpPr>
            <p:spPr>
              <a:xfrm>
                <a:off x="3429000" y="1676520"/>
                <a:ext cx="2819520" cy="1239840"/>
              </a:xfrm>
              <a:prstGeom prst="rect">
                <a:avLst/>
              </a:prstGeom>
              <a:solidFill>
                <a:srgbClr val="95ca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3754440" y="2148120"/>
                <a:ext cx="469800" cy="341280"/>
                <a:chOff x="3754440" y="2148120"/>
                <a:chExt cx="469800" cy="341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754440" y="2148120"/>
                  <a:ext cx="402840" cy="341280"/>
                </a:xfrm>
                <a:prstGeom prst="roundRect">
                  <a:avLst>
                    <a:gd name="adj" fmla="val 21968"/>
                  </a:avLst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bfcff"/>
                      </a:solidFill>
                      <a:latin typeface="Times New Roman"/>
                    </a:rPr>
                    <a:t>C1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157280" y="2250360"/>
                  <a:ext cx="66960" cy="13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603680" y="2375280"/>
                <a:ext cx="468000" cy="409320"/>
                <a:chOff x="4603680" y="2375280"/>
                <a:chExt cx="468000" cy="4093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603680" y="2443320"/>
                  <a:ext cx="401400" cy="341280"/>
                </a:xfrm>
                <a:prstGeom prst="roundRect">
                  <a:avLst>
                    <a:gd name="adj" fmla="val 21968"/>
                  </a:avLst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bfcff"/>
                      </a:solidFill>
                      <a:latin typeface="Times New Roman"/>
                    </a:rPr>
                    <a:t>C2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005080" y="2545560"/>
                  <a:ext cx="66600" cy="13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5400000">
                  <a:off x="4764600" y="2342160"/>
                  <a:ext cx="68040" cy="13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 rot="16200000">
                <a:off x="5389560" y="2305080"/>
                <a:ext cx="137880" cy="3636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99000" y="2103840"/>
                <a:ext cx="422280" cy="361800"/>
              </a:xfrm>
              <a:prstGeom prst="roundRect">
                <a:avLst>
                  <a:gd name="adj" fmla="val 21968"/>
                </a:avLst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bfcff"/>
                    </a:solidFill>
                    <a:latin typeface="Times New Roman"/>
                  </a:rPr>
                  <a:t>C3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471840" y="1687680"/>
                <a:ext cx="2754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66"/>
                    </a:solidFill>
                    <a:latin typeface="Arial"/>
                  </a:rPr>
                  <a:t>Component C0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6200000">
                <a:off x="6191280" y="2212920"/>
                <a:ext cx="230040" cy="11268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075000" y="2230560"/>
                <a:ext cx="22860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127120" y="2318040"/>
                <a:ext cx="304920" cy="22860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46560" y="2306880"/>
                <a:ext cx="579240" cy="4284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21280" y="2243520"/>
                <a:ext cx="77760" cy="9180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877560" y="990720"/>
              <a:ext cx="201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Component View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white-box view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594120" y="990720"/>
            <a:ext cx="1918080" cy="1957320"/>
            <a:chOff x="6594120" y="990720"/>
            <a:chExt cx="1918080" cy="1957320"/>
          </a:xfrm>
        </p:grpSpPr>
        <p:grpSp>
          <p:nvGrpSpPr>
            <p:cNvPr id="125" name=""/>
            <p:cNvGrpSpPr/>
            <p:nvPr/>
          </p:nvGrpSpPr>
          <p:grpSpPr>
            <a:xfrm>
              <a:off x="6934320" y="1676520"/>
              <a:ext cx="1350720" cy="1271520"/>
              <a:chOff x="6934320" y="1676520"/>
              <a:chExt cx="1350720" cy="1271520"/>
            </a:xfrm>
          </p:grpSpPr>
          <p:sp>
            <p:nvSpPr>
              <p:cNvPr id="126" name=""/>
              <p:cNvSpPr/>
              <p:nvPr/>
            </p:nvSpPr>
            <p:spPr>
              <a:xfrm>
                <a:off x="7010280" y="1676520"/>
                <a:ext cx="817560" cy="3571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66"/>
                    </a:solidFill>
                    <a:latin typeface="Times New Roman"/>
                  </a:rPr>
                  <a:t>A1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467480" y="2133720"/>
                <a:ext cx="817560" cy="3571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66"/>
                    </a:solidFill>
                    <a:latin typeface="Times New Roman"/>
                  </a:rPr>
                  <a:t>A2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34320" y="2590920"/>
                <a:ext cx="817560" cy="3571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3366"/>
                    </a:solidFill>
                    <a:latin typeface="Times New Roman"/>
                  </a:rPr>
                  <a:t>A3</a:t>
                </a:r>
                <a:endParaRPr b="0" lang="en-US" sz="1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594120" y="990720"/>
              <a:ext cx="191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mplementation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View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EAEB-74D3-48CD-B9BC-047BC51BA5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038480" y="1066680"/>
            <a:ext cx="2057400" cy="1143000"/>
          </a:xfrm>
          <a:prstGeom prst="wedgeRoundRectCallout">
            <a:avLst>
              <a:gd name="adj1" fmla="val -4861"/>
              <a:gd name="adj2" fmla="val 74444"/>
              <a:gd name="adj3" fmla="val 16667"/>
            </a:avLst>
          </a:prstGeom>
          <a:solidFill>
            <a:srgbClr val="ff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Models Overview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on’t be too specific about tools but define models so that tools (from different vendors) can interoperat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onent Model describes implement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arget Model for runtime environment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ecution Model records deployment decision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66680" y="1143000"/>
            <a:ext cx="2387880" cy="1649520"/>
            <a:chOff x="1066680" y="1143000"/>
            <a:chExt cx="2387880" cy="1649520"/>
          </a:xfrm>
        </p:grpSpPr>
        <p:sp>
          <p:nvSpPr>
            <p:cNvPr id="134" name=""/>
            <p:cNvSpPr/>
            <p:nvPr/>
          </p:nvSpPr>
          <p:spPr>
            <a:xfrm>
              <a:off x="1066680" y="1143000"/>
              <a:ext cx="2387880" cy="1649520"/>
            </a:xfrm>
            <a:prstGeom prst="rect">
              <a:avLst/>
            </a:prstGeom>
            <a:solidFill>
              <a:srgbClr val="95ca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284120" y="1432080"/>
              <a:ext cx="1341360" cy="1172520"/>
              <a:chOff x="1284120" y="1432080"/>
              <a:chExt cx="1341360" cy="1172520"/>
            </a:xfrm>
          </p:grpSpPr>
          <p:sp>
            <p:nvSpPr>
              <p:cNvPr id="136" name=""/>
              <p:cNvSpPr/>
              <p:nvPr/>
            </p:nvSpPr>
            <p:spPr>
              <a:xfrm rot="5400000">
                <a:off x="1451160" y="1775160"/>
                <a:ext cx="67680" cy="133560"/>
              </a:xfrm>
              <a:prstGeom prst="rect">
                <a:avLst/>
              </a:prstGeom>
              <a:gradFill rotWithShape="0">
                <a:gsLst>
                  <a:gs pos="0">
                    <a:srgbClr val="dc0081"/>
                  </a:gs>
                  <a:gs pos="100000">
                    <a:srgbClr val="65003b"/>
                  </a:gs>
                </a:gsLst>
                <a:lin ang="5400000"/>
              </a:gradFill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1284120" y="1466640"/>
                <a:ext cx="469800" cy="341280"/>
                <a:chOff x="1284120" y="1466640"/>
                <a:chExt cx="469800" cy="3412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284120" y="1466640"/>
                  <a:ext cx="402840" cy="341280"/>
                </a:xfrm>
                <a:prstGeom prst="roundRect">
                  <a:avLst>
                    <a:gd name="adj" fmla="val 21968"/>
                  </a:avLst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bfcff"/>
                      </a:solidFill>
                      <a:latin typeface="Times New Roman"/>
                    </a:rPr>
                    <a:t>C1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686960" y="1568880"/>
                  <a:ext cx="66960" cy="13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40" name=""/>
              <p:cNvCxnSpPr>
                <a:stCxn id="139" idx="3"/>
                <a:endCxn id="141" idx="0"/>
              </p:cNvCxnSpPr>
              <p:nvPr/>
            </p:nvCxnSpPr>
            <p:spPr>
              <a:xfrm flipV="1">
                <a:off x="1753920" y="1628280"/>
                <a:ext cx="413280" cy="7920"/>
              </a:xfrm>
              <a:prstGeom prst="straightConnector1">
                <a:avLst/>
              </a:prstGeom>
              <a:ln cap="rnd" w="19080">
                <a:solidFill>
                  <a:srgbClr val="fafd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</p:cxnSp>
          <p:grpSp>
            <p:nvGrpSpPr>
              <p:cNvPr id="142" name=""/>
              <p:cNvGrpSpPr/>
              <p:nvPr/>
            </p:nvGrpSpPr>
            <p:grpSpPr>
              <a:xfrm>
                <a:off x="1290240" y="2195280"/>
                <a:ext cx="468000" cy="409320"/>
                <a:chOff x="1290240" y="2195280"/>
                <a:chExt cx="468000" cy="409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290240" y="2263320"/>
                  <a:ext cx="401400" cy="341280"/>
                </a:xfrm>
                <a:prstGeom prst="roundRect">
                  <a:avLst>
                    <a:gd name="adj" fmla="val 21968"/>
                  </a:avLst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bfcff"/>
                      </a:solidFill>
                      <a:latin typeface="Times New Roman"/>
                    </a:rPr>
                    <a:t>C3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91640" y="2365560"/>
                  <a:ext cx="66600" cy="136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5400000">
                  <a:off x="1451160" y="2162160"/>
                  <a:ext cx="68040" cy="13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46" name=""/>
              <p:cNvCxnSpPr>
                <a:stCxn id="136" idx="3"/>
                <a:endCxn id="145" idx="1"/>
              </p:cNvCxnSpPr>
              <p:nvPr/>
            </p:nvCxnSpPr>
            <p:spPr>
              <a:xfrm>
                <a:off x="1483560" y="1874520"/>
                <a:ext cx="1080" cy="320400"/>
              </a:xfrm>
              <a:prstGeom prst="straightConnector1">
                <a:avLst/>
              </a:prstGeom>
              <a:ln cap="rnd" w="19080">
                <a:solidFill>
                  <a:srgbClr val="fafd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</p:cxnSp>
          <p:grpSp>
            <p:nvGrpSpPr>
              <p:cNvPr id="147" name=""/>
              <p:cNvGrpSpPr/>
              <p:nvPr/>
            </p:nvGrpSpPr>
            <p:grpSpPr>
              <a:xfrm>
                <a:off x="2168280" y="2163600"/>
                <a:ext cx="457200" cy="418320"/>
                <a:chOff x="2168280" y="2163600"/>
                <a:chExt cx="457200" cy="418320"/>
              </a:xfrm>
            </p:grpSpPr>
            <p:sp>
              <p:nvSpPr>
                <p:cNvPr id="148" name=""/>
                <p:cNvSpPr/>
                <p:nvPr/>
              </p:nvSpPr>
              <p:spPr>
                <a:xfrm rot="16200000">
                  <a:off x="2116440" y="2410560"/>
                  <a:ext cx="139680" cy="3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204640" y="2219040"/>
                  <a:ext cx="420840" cy="362880"/>
                </a:xfrm>
                <a:prstGeom prst="roundRect">
                  <a:avLst>
                    <a:gd name="adj" fmla="val 21968"/>
                  </a:avLst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bfcff"/>
                      </a:solidFill>
                      <a:latin typeface="Times New Roman"/>
                    </a:rPr>
                    <a:t>C4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16200000">
                  <a:off x="2377800" y="2154600"/>
                  <a:ext cx="55440" cy="73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1" name=""/>
              <p:cNvCxnSpPr>
                <a:stCxn id="150" idx="3"/>
                <a:endCxn id="152" idx="1"/>
              </p:cNvCxnSpPr>
              <p:nvPr/>
            </p:nvCxnSpPr>
            <p:spPr>
              <a:xfrm flipH="1" flipV="1">
                <a:off x="2404080" y="1841040"/>
                <a:ext cx="1080" cy="322560"/>
              </a:xfrm>
              <a:prstGeom prst="straightConnector1">
                <a:avLst/>
              </a:prstGeom>
              <a:ln cap="rnd" w="19080">
                <a:solidFill>
                  <a:srgbClr val="fafd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</p:cxnSp>
          <p:grpSp>
            <p:nvGrpSpPr>
              <p:cNvPr id="153" name=""/>
              <p:cNvGrpSpPr/>
              <p:nvPr/>
            </p:nvGrpSpPr>
            <p:grpSpPr>
              <a:xfrm>
                <a:off x="2166480" y="1432080"/>
                <a:ext cx="459000" cy="409320"/>
                <a:chOff x="2166480" y="1432080"/>
                <a:chExt cx="459000" cy="409320"/>
              </a:xfrm>
            </p:grpSpPr>
            <p:sp>
              <p:nvSpPr>
                <p:cNvPr id="152" name=""/>
                <p:cNvSpPr/>
                <p:nvPr/>
              </p:nvSpPr>
              <p:spPr>
                <a:xfrm rot="16200000">
                  <a:off x="2377080" y="1776960"/>
                  <a:ext cx="55440" cy="7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6200000">
                  <a:off x="2115000" y="1611000"/>
                  <a:ext cx="139320" cy="36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02840" y="1432080"/>
                  <a:ext cx="422640" cy="361440"/>
                </a:xfrm>
                <a:prstGeom prst="roundRect">
                  <a:avLst>
                    <a:gd name="adj" fmla="val 21968"/>
                  </a:avLst>
                </a:prstGeom>
                <a:gradFill rotWithShape="0">
                  <a:gsLst>
                    <a:gs pos="0">
                      <a:srgbClr val="dc0081"/>
                    </a:gs>
                    <a:gs pos="100000">
                      <a:srgbClr val="65003b"/>
                    </a:gs>
                  </a:gsLst>
                  <a:lin ang="5400000"/>
                </a:gra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bfcff"/>
                      </a:solidFill>
                      <a:latin typeface="Times New Roman"/>
                    </a:rPr>
                    <a:t>C2</a:t>
                  </a:r>
                  <a:endParaRPr b="0" lang="en-US" sz="18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55" name=""/>
              <p:cNvCxnSpPr>
                <a:stCxn id="144" idx="3"/>
                <a:endCxn id="148" idx="0"/>
              </p:cNvCxnSpPr>
              <p:nvPr/>
            </p:nvCxnSpPr>
            <p:spPr>
              <a:xfrm flipV="1">
                <a:off x="1758240" y="2428560"/>
                <a:ext cx="408600" cy="5040"/>
              </a:xfrm>
              <a:prstGeom prst="straightConnector1">
                <a:avLst/>
              </a:prstGeom>
              <a:ln cap="rnd" w="19080">
                <a:solidFill>
                  <a:srgbClr val="fafd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156" name=""/>
            <p:cNvSpPr/>
            <p:nvPr/>
          </p:nvSpPr>
          <p:spPr>
            <a:xfrm rot="16200000">
              <a:off x="2403360" y="1637280"/>
              <a:ext cx="132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477120" y="1066680"/>
            <a:ext cx="1904760" cy="1752840"/>
            <a:chOff x="6477120" y="1066680"/>
            <a:chExt cx="1904760" cy="1752840"/>
          </a:xfrm>
        </p:grpSpPr>
        <p:sp>
          <p:nvSpPr>
            <p:cNvPr id="158" name=""/>
            <p:cNvSpPr/>
            <p:nvPr/>
          </p:nvSpPr>
          <p:spPr>
            <a:xfrm>
              <a:off x="6629400" y="1077840"/>
              <a:ext cx="1600200" cy="17416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10666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66"/>
                  </a:solidFill>
                  <a:latin typeface="Arial"/>
                </a:rPr>
                <a:t>Target Model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6858000" y="1676520"/>
              <a:ext cx="1119240" cy="901080"/>
              <a:chOff x="6858000" y="1676520"/>
              <a:chExt cx="1119240" cy="9010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88440" y="2157120"/>
                <a:ext cx="336240" cy="1710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488000" y="1893600"/>
                <a:ext cx="261720" cy="1728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7319880" y="2351880"/>
                <a:ext cx="501840" cy="2077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aphicFrame>
            <p:nvGraphicFramePr>
              <p:cNvPr id="164" name=""/>
              <p:cNvGraphicFramePr/>
              <p:nvPr/>
            </p:nvGraphicFramePr>
            <p:xfrm>
              <a:off x="7729560" y="2247480"/>
              <a:ext cx="247680" cy="191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729560" y="2247480"/>
                        <a:ext cx="247680" cy="19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 flipV="1">
                <a:off x="6972480" y="2059920"/>
                <a:ext cx="496800" cy="11556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19800" y="1752120"/>
                <a:ext cx="597240" cy="3780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aphicFrame>
            <p:nvGraphicFramePr>
              <p:cNvPr id="168" name=""/>
              <p:cNvGraphicFramePr/>
              <p:nvPr/>
            </p:nvGraphicFramePr>
            <p:xfrm>
              <a:off x="6858000" y="2079360"/>
              <a:ext cx="247680" cy="191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858000" y="2079360"/>
                        <a:ext cx="247680" cy="19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0" name=""/>
              <p:cNvGraphicFramePr/>
              <p:nvPr/>
            </p:nvGraphicFramePr>
            <p:xfrm>
              <a:off x="7716960" y="1714320"/>
              <a:ext cx="249120" cy="191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1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716960" y="1714320"/>
                        <a:ext cx="249120" cy="19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"/>
              <p:cNvSpPr/>
              <p:nvPr/>
            </p:nvSpPr>
            <p:spPr>
              <a:xfrm flipH="1">
                <a:off x="7269120" y="2098440"/>
                <a:ext cx="200160" cy="4615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aphicFrame>
            <p:nvGraphicFramePr>
              <p:cNvPr id="173" name=""/>
              <p:cNvGraphicFramePr/>
              <p:nvPr/>
            </p:nvGraphicFramePr>
            <p:xfrm>
              <a:off x="7250040" y="2384280"/>
              <a:ext cx="246240" cy="1933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250040" y="2384280"/>
                        <a:ext cx="246240" cy="193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5" name=""/>
              <p:cNvGraphicFramePr/>
              <p:nvPr/>
            </p:nvGraphicFramePr>
            <p:xfrm>
              <a:off x="7350120" y="1999800"/>
              <a:ext cx="247680" cy="19188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350120" y="1999800"/>
                        <a:ext cx="247680" cy="19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7" name=""/>
              <p:cNvGraphicFramePr/>
              <p:nvPr/>
            </p:nvGraphicFramePr>
            <p:xfrm>
              <a:off x="7142040" y="1676520"/>
              <a:ext cx="249480" cy="191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142040" y="1676520"/>
                        <a:ext cx="249480" cy="19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79" name=""/>
          <p:cNvSpPr/>
          <p:nvPr/>
        </p:nvSpPr>
        <p:spPr>
          <a:xfrm>
            <a:off x="3581280" y="1523880"/>
            <a:ext cx="2971800" cy="0"/>
          </a:xfrm>
          <a:prstGeom prst="line">
            <a:avLst/>
          </a:prstGeom>
          <a:ln w="572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41680" y="12193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cision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1981080"/>
            <a:ext cx="2971800" cy="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3600" y="16444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ecu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13360" y="243828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Execution Mod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7914-EC90-4C85-9454-D57A672193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onent Model Rational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mplementation View Level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scribes implementation-specific properties (e.g. required hardware devices)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omponent View Level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llows implementations to be monolithic or assembly based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pplication View Level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undles up multiple implementations into “packages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vides means to configure applica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3446-73E8-4894-9088-A25FAC1847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onent Data Model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44953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cursion on Packag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asy reuse of packag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asy update (e.g. via URL)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Capture an Artifact’s dependencies (libraries, support files, …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88364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EBED-716D-4209-9B7D-C90BF3672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arget Model Rational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des have computational capabiliti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y are a target for executi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commodate SMPs, DSPs, FPGA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des have resources (e.g. hardware devices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Resources may be share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odes have access to Interconnect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um of Nodes and Interconnects is the Domai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A228-1C07-4212-9C39-598C5BD15B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00:11Z</dcterms:created>
  <dc:creator>Frank Pilhofer</dc:creator>
  <dc:description/>
  <dc:language>en-US</dc:language>
  <cp:lastModifiedBy>Alfred E. Neumann</cp:lastModifiedBy>
  <cp:lastPrinted>2001-04-18T18:28:43Z</cp:lastPrinted>
  <dcterms:modified xsi:type="dcterms:W3CDTF">2003-01-27T20:55:09Z</dcterms:modified>
  <cp:revision>108</cp:revision>
  <dc:subject/>
  <dc:title>No Slide Title</dc:title>
</cp:coreProperties>
</file>